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4068-8CE0-4127-9DCE-89459CBE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1223-38BF-482D-ADCF-E7B4B0D9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9C5-8151-4258-B5CE-D34D63B2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9705-72AD-48E4-941D-010C5C4B6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6FC-6411-44F6-951E-A060CBB8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361D-EEEE-4EC6-8073-DCE5838A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16E-C66E-49FD-A093-589405B1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4547-9248-463A-B1A8-521C1901C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6DB-FC19-4F77-93A1-D5C49EE7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91A-6D4D-4BF3-8F97-22CD08B0E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3774-803C-4F14-B992-4747A67C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F25-75F6-467A-9913-D839A83B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B320-96BA-4664-80B2-5C139DC8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691-AC5C-45A4-993E-F4A8C1E5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1156-E4F7-4739-8A48-180A36FA8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ADE9-DDFC-44C2-B2E2-BB244F0A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DC38-7CED-49E8-BFE4-2ECC87CD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889-C86B-4255-9827-2FEA4A51B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C20-3998-4FEF-B1D8-5B024002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5F1-FD52-441F-BB90-0E8E933FE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61E-71F3-4BB4-8BDE-3BD28E8D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4F9C-F084-4552-AE51-D6328DDE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463-CF9E-4DFE-BA91-AE1DD071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5A3-3EA4-458F-86D8-73609C3B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DE4-8067-4F0B-AD4F-551E7457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560-6239-47E0-B5E4-B8F6A19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652-2580-4843-8A6C-12C21EE5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892-9A10-4ADC-B79D-859E4072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676-62F0-4C15-B452-5DDD6B3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40DC-FF77-46FD-B78F-CFFB9C5F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4EB-3141-44D2-A891-BF9CF2BE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B54-FE05-456D-B12D-F823DC76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76C0-5EB1-4BCF-9C9D-5DB7F9D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5218-9BD7-4D89-8A1E-21842BD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B5F-B074-4B56-A9AF-0BB8927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548-FDCB-4203-9ACE-55AB72E7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1885-7725-4FF7-8072-25B446F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093-219B-4E36-B8DC-D828483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918-1FE4-444D-8081-070B622F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E591-5159-42F1-A052-E5AF64E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78A-7EA5-4571-9131-7E5D6811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1E10-B105-4900-8D67-14B548D4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E59B-BD4A-472D-8592-ED2C6AB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EFDB-7F71-4E6C-9445-90C9BDA6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5D44-D257-4B2B-9E68-BBDCF74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0E67-EE42-47A0-B742-87CC575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A0B-E3FF-41B6-B3D6-2F24718C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8B43-3DF3-4263-8994-BE5B98D5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2DC1-6AA5-4B1C-A91F-5D65DF9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C474-E64B-4457-821F-2DE712F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2477-01FB-41A3-ADE1-6389D5D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6E75-E6E0-46E6-B7CF-4A730E0C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B59E-6094-405C-B87E-F8035B4D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88ED-8243-4F96-AF9B-56E710F9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6F4-969F-4648-B614-4CA293C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7A-EBAB-4237-B00D-1BBD08F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047-325F-43DD-B86B-7ADE941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8D5-1DD1-45BC-9D51-BD72F01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838-F6D8-4C95-9CAC-37B44A9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8C2-CA79-4105-A2A1-D4632B0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BECC-477E-4B33-AEA1-67033089F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9A9-53F2-42D2-9B8C-6063FEB19D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25F-F2CC-436B-98FE-65D395715F0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398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which two cataracts on the Nile was Napata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B: It’s not on the N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: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year were the Napatan kings forced out of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1645  B: about 6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last year  D: about 76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5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apata a Nubian capital before or after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efo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n Women held a very high sta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49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ens of Nubia had very powerful figures in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ancient artwork B: the Nubian g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eyes of priests D: ancien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AutoShape 4"/>
          <p:cNvGrpSpPr/>
          <p:nvPr/>
        </p:nvGrpSpPr>
        <p:grpSpPr>
          <a:xfrm>
            <a:off x="7162920" y="304920"/>
            <a:ext cx="1311120" cy="853920"/>
            <a:chOff x="7162920" y="304920"/>
            <a:chExt cx="1311120" cy="853920"/>
          </a:xfrm>
        </p:grpSpPr>
        <p:pic>
          <p:nvPicPr>
            <p:cNvPr id="50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62920" y="30492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7169400" y="3114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bia had many more women as rulers when compared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r. Domyan B: Morgan’s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Egypt  D: Me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0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oyalty, who was most often next in line for the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Miss Snow B: children of the ruler’s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he ruler’s children D: Comm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15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id Nubian queens’ weight reflect their wealth and r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If they were heavy then they had a lot of money to feed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It didn’t  C: They could wear plus size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All women were plump at that time; queens had to have been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52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roe Hieroglyphics remain an unsolved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27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914400" y="2348280"/>
            <a:ext cx="746748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ere the Meroe Hieroglyphics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Buried in the gro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: On a motor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Tombs and Temples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3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1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0" y="0"/>
            <a:ext cx="2057400" cy="838080"/>
          </a:xfrm>
          <a:custGeom>
            <a:avLst/>
            <a:gdLst>
              <a:gd name="textAreaLeft" fmla="*/ 54000 w 2057400"/>
              <a:gd name="textAreaRight" fmla="*/ 2003400 w 2057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3012" h="21600">
                <a:moveTo>
                  <a:pt x="0" y="0"/>
                </a:moveTo>
                <a:lnTo>
                  <a:pt x="53012" y="0"/>
                </a:lnTo>
                <a:lnTo>
                  <a:pt x="53012" y="21600"/>
                </a:lnTo>
                <a:lnTo>
                  <a:pt x="0" y="21600"/>
                </a:lnTo>
                <a:close/>
              </a:path>
              <a:path fill="lightenLess" w="53012" h="21600">
                <a:moveTo>
                  <a:pt x="0" y="0"/>
                </a:moveTo>
                <a:lnTo>
                  <a:pt x="53012" y="0"/>
                </a:lnTo>
                <a:lnTo>
                  <a:pt x="51612" y="1400"/>
                </a:lnTo>
                <a:lnTo>
                  <a:pt x="1400" y="1400"/>
                </a:lnTo>
                <a:close/>
              </a:path>
              <a:path fill="darken" w="53012" h="21600">
                <a:moveTo>
                  <a:pt x="53012" y="0"/>
                </a:moveTo>
                <a:lnTo>
                  <a:pt x="53012" y="21600"/>
                </a:lnTo>
                <a:lnTo>
                  <a:pt x="51612" y="20200"/>
                </a:lnTo>
                <a:lnTo>
                  <a:pt x="51612" y="1400"/>
                </a:lnTo>
                <a:close/>
              </a:path>
              <a:path fill="darkenLess" w="53012" h="21600">
                <a:moveTo>
                  <a:pt x="5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12" y="20200"/>
                </a:lnTo>
                <a:close/>
              </a:path>
              <a:path fill="lighten" w="5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012" h="21600">
                <a:moveTo>
                  <a:pt x="30005" y="10800"/>
                </a:moveTo>
                <a:lnTo>
                  <a:pt x="19500" y="17806"/>
                </a:lnTo>
                <a:lnTo>
                  <a:pt x="19500" y="3794"/>
                </a:lnTo>
                <a:close/>
              </a:path>
              <a:path fill="darken" w="53012" h="21600">
                <a:moveTo>
                  <a:pt x="31850" y="3794"/>
                </a:moveTo>
                <a:lnTo>
                  <a:pt x="31850" y="17806"/>
                </a:lnTo>
                <a:lnTo>
                  <a:pt x="33513" y="17806"/>
                </a:lnTo>
                <a:lnTo>
                  <a:pt x="33513" y="379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oe created their Hieroglyphics based on Su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39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838080" y="17384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44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 rot="10800000">
            <a:off x="377640" y="1905120"/>
            <a:ext cx="8312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oitic script was used in the Kingdom of Kush, from the 2nd century BCE onwards until the 5th century 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1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f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eroglyphic for 'a' was used only in the beginning of words (where a syllabic 'a' might occur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20433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Tru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58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Harrisbur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64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3"/>
          <p:cNvSpPr/>
          <p:nvPr/>
        </p:nvSpPr>
        <p:spPr>
          <a:xfrm>
            <a:off x="609480" y="30481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ABRAHAM LINCOL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0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.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76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3"/>
          <p:cNvSpPr/>
          <p:nvPr/>
        </p:nvSpPr>
        <p:spPr>
          <a:xfrm>
            <a:off x="609480" y="25909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You don’t bury survivors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582" name="AutoShape 4" descr=""/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The match!!</a:t>
            </a:r>
            <a:r>
              <a:rPr b="0" lang="en-U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4572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Elephant"/>
              </a:rPr>
              <a:t>The En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60451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Elephant"/>
              </a:rPr>
              <a:t>We hope you enjoyed the game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304920"/>
            <a:ext cx="670572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 from Morgan and Gwy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 for making this possi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68580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57200" y="2438280"/>
            <a:ext cx="82296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iron ore deposits benefit the people of Mer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y could make tools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y made ores for their 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 didn’t benefit them  D: they made 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roe people could control trade routes to ____________ with their weap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local Walmart           B: the 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Mediterranean Sea  D: their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19564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bian styles of pottery, jewelry, and furniture still exist in present-day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oes in the bl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anada    B: Su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taly          D: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271960"/>
            <a:ext cx="74678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4">
            <a:hlinkClick r:id="rId2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1676520"/>
            <a:ext cx="85345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did the Napatan kings r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: Egypt B: 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: Africa D: The Land of Gwyneth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2544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of Napata did not follow Egyptian tra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0880" y="21337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Fa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6T18:04:34Z</dcterms:modified>
  <cp:revision>18</cp:revision>
  <dc:subject/>
  <dc:title>Slide 1</dc:title>
</cp:coreProperties>
</file>